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42D5-92A9-419C-AD62-5F903E84A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89CF-F649-4EA6-8117-B56DEBE82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71F3-0FDB-4163-BFFE-587C437B7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423E-C4AD-4731-9A61-B60249741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6055-0272-4BE2-B3DD-FAB8C8594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D6DE-845B-47EB-88E5-DFB4B1887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3D0B-E43F-462D-892B-569C39579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FB71-2F88-4A6A-B901-3D9EDF9F5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2F2F-DD2D-4889-AC0F-3FFA76C37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B141-E658-471B-B97A-F1C834010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0D28-E3D8-46E4-8DAE-6D8A541A3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33B7-46B5-48A6-B2EF-C460DF781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1EF1-A13B-45FE-8667-C57A0C743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50A9-EE6E-46A9-ABA8-6DDADE1AD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27A6-B34A-4BAC-98A2-5F094C82D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65A6-F9A6-4E6C-A51C-47C8E864B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02C0-399D-4007-92BA-B5DA77FF2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F9F4-C76A-40A5-AB8D-CBA5375BA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5ED0-629A-4445-B790-5E12CF01A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CB53-534D-477E-8BB0-6717A37DD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3CA-4C88-42E1-B6F3-97BC0211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6B4-D523-437F-A3FF-B6B6F44D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259-C122-4204-802E-05BE3DD7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93E-5F9F-4CA1-88AB-5832394E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9778-BCC2-4AF1-AFA7-967C35FC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43A2-6FEC-4832-A4F2-68A51ABB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F16C-61BB-4F2B-932D-23B4525D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7A4C-4903-4C88-82F5-9FE1D95D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39B6-23AB-4C07-9858-22FE3E66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1A96-7B2B-43B6-B77E-E80837A1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53B6-21FD-4BE5-9A66-620ACAF3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5B3-98C6-4FF3-BDEA-434482D2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2E88-CE7C-4115-9C02-5054D3CB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F184-F1ED-4874-814A-DC8E8C0A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D91D-8FA9-4AA7-B6BE-96406D51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ECF5-2E85-466F-BA8A-DC171F48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ADF5-88E2-47FF-B4F4-B9EBF7B3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1CC-EB7F-487D-BA71-BC92933F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6B3D-019F-47E6-81B2-1875F5CF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C4F7-A0AC-4D40-ADD9-62676B63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78D-CA5D-4673-A021-D22B3F04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FE5-141A-4ED1-ACB4-3E47E383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81CB-DF1F-4750-BBEE-5356CB71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9281-5FCE-4F08-BAC7-1F65DCA7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92FE-0D7C-47C7-A3A9-21A2CCDE4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344D-3294-4697-B12E-126448B32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8222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219320" y="68580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Brush Script MT"/>
              </a:rPr>
              <a:t>Cornell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Brush Script MT"/>
              <a:ea typeface="Brush Script MT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1066680" y="3962520"/>
            <a:ext cx="47246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Brush Script MT"/>
              </a:rPr>
              <a:t>Notes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Brush Script MT"/>
              <a:ea typeface="Brush Script MT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5943600" y="2819520"/>
            <a:ext cx="2766960" cy="3470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1295280" y="533520"/>
            <a:ext cx="708660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Costa's Level One Ques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1858680" cy="449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1219320" y="1828800"/>
            <a:ext cx="6073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l 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Ques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swers are usually found in a 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ks students to recall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1295280" y="533520"/>
            <a:ext cx="708660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Costa's Level One Ques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1858680" cy="44956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1447920" y="1828800"/>
            <a:ext cx="5844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l On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      Rec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Descri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Identif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Rec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1295280" y="533520"/>
            <a:ext cx="708660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Costa's Level Two Ques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1858680" cy="44956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1219320" y="1828800"/>
            <a:ext cx="6073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l Tw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ables students to process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ks students to make sense of the information they have gathe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1371600" y="533520"/>
            <a:ext cx="655308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Costa's Level Two Ques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1858680" cy="44960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1219320" y="1828800"/>
            <a:ext cx="6629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l Tw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z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ai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if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Sequ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1295280" y="533520"/>
            <a:ext cx="6629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Costa's Level Three Questi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1858680" cy="44956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1219320" y="1828800"/>
            <a:ext cx="60735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l Thre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challenging for students to ask and ans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ks students to go beyond the concepts they have learned and to apply what they have learn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7831080" y="725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1295280" y="533520"/>
            <a:ext cx="6477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Costa's Level Three Questi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6858000" y="1523880"/>
            <a:ext cx="1859040" cy="44960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1523880" y="1889280"/>
            <a:ext cx="6073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l Thre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ag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rapol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i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y a Princi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066680" y="16002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questions should reflec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6781680" y="1752480"/>
            <a:ext cx="1859040" cy="44960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992520" y="2362320"/>
            <a:ext cx="61761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. you don’t underst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 want to discuss with y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cher/tu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92160" y="4267080"/>
            <a:ext cx="637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. you think would appe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an essay t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068480" y="5813280"/>
            <a:ext cx="430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ps in your n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371600" y="4572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3816c"/>
                </a:solidFill>
                <a:latin typeface="Arial"/>
              </a:rPr>
              <a:t>       </a:t>
            </a:r>
            <a:r>
              <a:rPr b="1" lang="en-US" sz="5400" spc="-1" strike="noStrike">
                <a:solidFill>
                  <a:srgbClr val="a3816c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2"/>
          <p:cNvSpPr txBox="1"/>
          <p:nvPr/>
        </p:nvSpPr>
        <p:spPr>
          <a:xfrm>
            <a:off x="1143000" y="457200"/>
            <a:ext cx="7315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Assignment &amp; Instru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143000" y="1676520"/>
            <a:ext cx="73915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own, in the spa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ded at the bottom of the page, complete a 3 or 4 sentence summary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 you wrot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 your no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095880" y="4343400"/>
            <a:ext cx="2286000" cy="203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2"/>
          <p:cNvSpPr txBox="1"/>
          <p:nvPr/>
        </p:nvSpPr>
        <p:spPr>
          <a:xfrm>
            <a:off x="1143000" y="4572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Let's Revie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828800" y="22096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goes where on Cornell Note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286000" cy="203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1523880" y="457200"/>
            <a:ext cx="6782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Cornell Not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28954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80680" y="33764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 go here, 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right hand col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916200" y="1574640"/>
            <a:ext cx="216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 go 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895480" y="541008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3 to 4 sentence summary down there on the bot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5257800" y="5881680"/>
            <a:ext cx="333360" cy="67140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186000" y="1573200"/>
            <a:ext cx="49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forget the he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Class, Period, Date,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7086600" y="1295280"/>
            <a:ext cx="257040" cy="671760"/>
          </a:xfrm>
          <a:prstGeom prst="upArrow">
            <a:avLst>
              <a:gd name="adj1" fmla="val 50000"/>
              <a:gd name="adj2" fmla="val 65336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1905120" y="228600"/>
            <a:ext cx="0" cy="64008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066680" y="457200"/>
            <a:ext cx="7467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839160" y="1447920"/>
            <a:ext cx="665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nell note taking stimulat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tical thinking ski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800" y="2819520"/>
            <a:ext cx="681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e taking helps stud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ember what is said in cla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39520" y="4114800"/>
            <a:ext cx="83062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good set of notes can help stud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 on assignments and prepare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sts outside of the class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7086600" y="1905120"/>
            <a:ext cx="1541520" cy="1752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066680" y="457200"/>
            <a:ext cx="7467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16560" y="1523880"/>
            <a:ext cx="754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od notes allow students to hel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ch other problem sol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915840" y="2895480"/>
            <a:ext cx="775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od notes help students organiz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process data and inform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914400" y="4267080"/>
            <a:ext cx="77724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od notes help students recall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tting them to process their 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ti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" dur="1" fill="hold"/>
                                  <p:tgtEl>
                                    <p:spTgt spid="1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066680" y="457200"/>
            <a:ext cx="7467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514600" y="2362320"/>
            <a:ext cx="487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rit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a great too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r learni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6095880" y="228600"/>
            <a:ext cx="255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&amp; La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31240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296360" y="7081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92160" y="1698480"/>
            <a:ext cx="212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193280" y="213372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122280" y="4898880"/>
            <a:ext cx="588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3 to 4 sentence summary acro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ttom, in the Summary s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5867280" y="586728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2057400" y="228600"/>
            <a:ext cx="0" cy="64008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586880" y="40845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220968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 flipH="1">
            <a:off x="60948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3"/>
          <p:cNvSpPr txBox="1"/>
          <p:nvPr/>
        </p:nvSpPr>
        <p:spPr>
          <a:xfrm>
            <a:off x="1295280" y="533520"/>
            <a:ext cx="678204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Practice Ti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828960" cy="4343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065600" y="2027160"/>
            <a:ext cx="5405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s get out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et of Corn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 paper and 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y to practice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371600" y="457200"/>
            <a:ext cx="64422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Assignment &amp; Instru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43000" y="1600200"/>
            <a:ext cx="7620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e large, right h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, take notes lik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normally would. 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 use any style of note-taking you wish: outline format, narrative format, symbols, short hand, et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7010280" y="1676520"/>
            <a:ext cx="1702080" cy="182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447920" y="533520"/>
            <a:ext cx="644184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Assignment &amp; Instru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43000" y="1523880"/>
            <a:ext cx="7010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e notes with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lk about what you wr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why. Look for gaps 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ssed informa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h partners should fe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e to add to their no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943600" y="1828800"/>
            <a:ext cx="2406600" cy="441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371600" y="533520"/>
            <a:ext cx="644220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Assignment &amp; Instru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781680" y="1676520"/>
            <a:ext cx="1859040" cy="44956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143000" y="1523880"/>
            <a:ext cx="6019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your partner(s), create questions in the left hand column.  These questions should elicit critical thinking skills:  Levels 2 and 3 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ta’s Levels of Questio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03:31:44Z</dcterms:created>
  <dc:creator>Michael Solis</dc:creator>
  <dc:description/>
  <dc:language>en-US</dc:language>
  <cp:lastModifiedBy>shmurray</cp:lastModifiedBy>
  <dcterms:modified xsi:type="dcterms:W3CDTF">2011-06-13T20:01:15Z</dcterms:modified>
  <cp:revision>2</cp:revision>
  <dc:subject/>
  <dc:title> </dc:title>
</cp:coreProperties>
</file>